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B7295-A36D-4773-B0B9-05B441FD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75455-BA17-49B3-9CCD-A347670A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26ACC-84A7-4C3A-8034-24231591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98F18-1AA8-4C9D-83C4-BB0AE4CE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596A-A03C-4C0C-86D2-665FBD61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2358-E43C-4AA4-9CA8-7B8CF1AE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C47E-B098-4964-BB61-8CC854A9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1E88-FEEE-4F51-9B5D-87688EB8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926C-EF61-4021-83F5-E2627398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B952-140C-4FA7-B955-CB7D1D0E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6743-5ECA-497E-B3E4-B3171E69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529E9-28E6-41ED-9994-82C774A4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4D29-2D74-4163-9468-50BD3702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53CB-96CB-48DC-B87B-52177B3C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931E-E348-4C9C-9172-A86E0824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AFFE-45E8-4500-9014-7543BBC0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6072-1166-4E29-B2C8-219D04DE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C4A66-C8F3-4B6B-9BA9-D80C3016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1A304-B1C4-4C25-A9E4-E6BA2C8C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24FA6-1F41-48CC-91DD-00DE77CE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A89B5-0D15-47DF-8195-1CBA661E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35274-0C23-4951-B27E-DD7ADAAB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A3E11-147C-4DBF-A811-DCAE9854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D8E01-25C4-4B04-88C8-2A1BA2A6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8608-BEBF-4FC5-BD14-32F5658BE76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6A9C-FB18-4C94-A2D5-BAA4BA25A86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839880"/>
            <a:ext cx="95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79 (38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С дъжд земята напояваш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же, всеки жаден час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духовни дарби даваш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дари ги и на н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а нас, и на н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дари ги и на н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14228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Мили Господи Исус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Си на душата Сп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зи час и нам яви с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х, смили се и над н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ад нас, и над н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х, смили се и над н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14228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Посети ни, Душе Свет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над всичко имаш власт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раздай небесни дарб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е Те молим, и на н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а нас, и на н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е Те молим, и на н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14228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 Огорчили сме Те много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се молим, дай ни час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любовта Си и в мира С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мира Си и на н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а нас, и на н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мира Си и на нас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17T08:57:20Z</dcterms:modified>
  <cp:revision>111</cp:revision>
  <dc:subject/>
  <dc:title>Slide 1</dc:title>
</cp:coreProperties>
</file>